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7245-F84B-49B9-8381-D82D7AD9C2E8}" type="datetime">
              <a:rPr b="0" lang="zh-CN" sz="1200" spc="-1" strike="noStrike">
                <a:solidFill>
                  <a:srgbClr val="000000"/>
                </a:solidFill>
                <a:latin typeface="Arial"/>
                <a:ea typeface="宋体"/>
              </a:rPr>
              <a:t>26/7/31</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2187-38B4-4FBB-BEB2-F5D45AE40B4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044F-758B-468A-8A5D-D53F0C6112F7}"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D9AF-8581-4979-9BF1-AEC29577AB6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C888-C83F-4917-B91F-8FAB9E82243E}"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3BD5-1F86-42BB-9F43-62F8D531C88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8AF5-640F-4A2B-AAF0-5F504EBB659E}"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833C-680B-4E09-AEE3-A65BA5E723A8}"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EF17-C9BC-4E4F-A3CC-331558245B4E}"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58DA-4F96-49FC-A80F-B9EAE395DD66}"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D265-39C6-4661-95CD-9D60B38E1798}"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2B81-4341-4AE7-966E-C0EB778C8FB3}"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C227D0-0767-4C9F-B3DA-38F495977A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2FFD36-72F5-4E9F-AAC3-DE1D107C8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5F4D40-DDA7-49DB-8B6C-BEBAEB059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9B0E1BE-91EA-407B-AAAB-BACE94FB5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D6677E-42F7-4F27-9EA1-E5CBF8F44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AC1376-F97B-42C3-8247-F09385611F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A11A4-AD03-4F92-9CDC-B25DFA28C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59E052-4FBB-4851-AFA3-C554FA826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FD0002-0580-458F-AE7F-8991ABF30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03F200-14F3-4BA4-85D4-E2C279426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CC4E16-961E-43A4-9253-9E2054116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40B7EB-F6A5-4EE4-9834-C15769768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BAA55-9B8B-40BE-AD43-07DA6C95E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F650C-79C4-4028-B700-5AC11B44F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3E479-A4B7-466C-9EB7-282D93744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8D71CF-8EB5-46A5-B4B8-269B7B995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2327BE-21AD-4B62-BCBF-7FC501EC98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487CAC-0684-45BE-AD77-C91BAF4191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160CED-9A83-45C5-A85A-1A368FA85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AAD323-D96F-4B80-87EA-8630E9DE2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631B54-5123-43F5-A646-29F0610E8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D793CD-FCDB-4130-BEB5-1689B67E1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E8885F-86E9-4DA5-958D-2EBA47B12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3BEBAA-4BEC-4DB1-94EB-63B042F697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6E25-453C-4311-8188-E72FBDB81C2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E428-0188-4FF1-98A1-71DC62E59CC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